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9497-4400-4D91-8564-7AA4FCDD6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66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DEE5-67C9-4E0C-9DBC-DA84B238B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385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62CC-8D83-42CE-8EC1-4E1875C5C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99072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99072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385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385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6E31-6CBB-409F-B375-D8E94E01B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D149-54D0-49F3-AE86-C4AF6B8915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1DC2-80AC-4EF7-B600-110CB63112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3DED-F106-4057-9163-8FC43ED90F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8880" y="99072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B0CC-0899-458C-8B62-0B45D7D571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859D-86CA-4961-9C78-FDDD896F01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EA31-1A89-47DF-B858-FE5F2F5FA1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99072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385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D707-6772-4139-97E6-125D216BEA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8D66-B307-40A0-B1EE-65ACF9238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888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8880" y="385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38D1-C625-4E71-81FB-6A63355397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888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8566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3F7A-D728-4CB2-82C6-367429FA6C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38566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34A4-3CDE-4935-9C1C-8A89B5763B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888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385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8880" y="385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AB4D-A2F1-475C-A33C-018190924E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1400" y="99072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4200" y="99072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385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1400" y="385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4200" y="385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C70D-592A-4E3A-895F-CD9C7C981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1E2D-FC90-4BFE-A6FC-BF08CA446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99072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E71F-1B79-4DEB-B37C-2E0656E94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8F52-CD36-4784-BF2D-9FA8FD26B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B111-2840-4078-89BE-7CE34B4B7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99072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9EB7-4190-4717-B85C-909EF9021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385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11DC-D518-42E1-9FC5-037F569E7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99072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66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2F35-18A7-453D-A999-1272E224F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684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864C-1FA9-4753-8131-40FFF959B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514080" cy="468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04920" y="762120"/>
            <a:ext cx="838188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467480" y="6180120"/>
            <a:ext cx="167652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238880" y="5813280"/>
            <a:ext cx="1865520" cy="99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67b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667b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4723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514440" cy="46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971800"/>
            <a:ext cx="838188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8600" y="3124080"/>
            <a:ext cx="2048040" cy="827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667b5"/>
                </a:solidFill>
                <a:latin typeface="Arial"/>
              </a:rPr>
              <a:t>Creating Data-Driven Data Set Names in a Single Pass Using Hash Objects </a:t>
            </a:r>
            <a:endParaRPr b="0" lang="en-US" sz="4000" spc="-1" strike="noStrike">
              <a:solidFill>
                <a:srgbClr val="1667b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Hami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iser Foundation Health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kland, Califor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's One Way To Do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back at the base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ourier New"/>
              </a:rPr>
              <a:t>dat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ex2_KY ex2_CA ex2_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ha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stat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800080"/>
                </a:solidFill>
                <a:latin typeface="Courier New"/>
              </a:rPr>
              <a:t>'KY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output ex2_K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800080"/>
                </a:solidFill>
                <a:latin typeface="Courier New"/>
              </a:rPr>
              <a:t>'CA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output ex2_C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800080"/>
                </a:solidFill>
                <a:latin typeface="Courier New"/>
              </a:rPr>
              <a:t>'MS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output ex2_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otherwi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error </a:t>
            </a:r>
            <a:r>
              <a:rPr b="1" lang="en-US" sz="2800" spc="-1" strike="noStrike">
                <a:solidFill>
                  <a:srgbClr val="800080"/>
                </a:solidFill>
                <a:latin typeface="Courier New"/>
              </a:rPr>
              <a:t>'Unknown State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tate=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752480"/>
            <a:ext cx="4572000" cy="457200"/>
          </a:xfrm>
          <a:prstGeom prst="roundRect">
            <a:avLst>
              <a:gd name="adj" fmla="val 16667"/>
            </a:avLst>
          </a:prstGeom>
          <a:solidFill>
            <a:srgbClr val="99cc00">
              <a:alpha val="2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048120"/>
            <a:ext cx="5790960" cy="1371600"/>
          </a:xfrm>
          <a:prstGeom prst="roundRect">
            <a:avLst>
              <a:gd name="adj" fmla="val 16667"/>
            </a:avLst>
          </a:prstGeom>
          <a:solidFill>
            <a:srgbClr val="99cc00">
              <a:alpha val="2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Way To Do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geable part of the code is localized to two places.  All we need to do it to generate those pieces of code and plug them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approaches (at least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OC SQL to generate macro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data step to write code that yo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%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data step to CALL EXECUT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 SQL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ourier New"/>
              </a:rPr>
              <a:t>pro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Courier New"/>
              </a:rPr>
              <a:t>sql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no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distinc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800" spc="-1" strike="noStrike">
                <a:solidFill>
                  <a:srgbClr val="800080"/>
                </a:solidFill>
                <a:latin typeface="Courier New"/>
              </a:rPr>
              <a:t>'ex3_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|| sta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ts(</a:t>
            </a:r>
            <a:r>
              <a:rPr b="1" lang="en-US" sz="2800" spc="-1" strike="noStrike">
                <a:solidFill>
                  <a:srgbClr val="800080"/>
                </a:solidFill>
                <a:latin typeface="Courier New"/>
              </a:rPr>
              <a:t>'when (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quote(state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800" spc="-1" strike="noStrike">
                <a:solidFill>
                  <a:srgbClr val="800080"/>
                </a:solidFill>
                <a:latin typeface="Courier New"/>
              </a:rPr>
              <a:t>') output ex3_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e, </a:t>
            </a:r>
            <a:r>
              <a:rPr b="1" lang="en-US" sz="2800" spc="-1" strike="noStrike">
                <a:solidFill>
                  <a:srgbClr val="800080"/>
                </a:solidFill>
                <a:latin typeface="Courier New"/>
              </a:rPr>
              <a:t>';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DATASETS separated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Courier New"/>
              </a:rPr>
              <a:t>'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WHENS    separated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Courier New"/>
              </a:rPr>
              <a:t>' 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ha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ourier New"/>
              </a:rPr>
              <a:t>qu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 SQL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Courier New"/>
              </a:rPr>
              <a:t>dat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&amp;DATASET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h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tat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amp;W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therw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Courier New"/>
              </a:rPr>
              <a:t>ru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s are left as an exercise for the reader, but Ron Fehd is doing a workshop tomorrow on SELECT … 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, Many Reads of th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4952880"/>
            <a:ext cx="1905120" cy="685800"/>
            <a:chOff x="1371600" y="4952880"/>
            <a:chExt cx="1905120" cy="685800"/>
          </a:xfrm>
        </p:grpSpPr>
        <p:sp>
          <p:nvSpPr>
            <p:cNvPr id="121" name=""/>
            <p:cNvSpPr/>
            <p:nvPr/>
          </p:nvSpPr>
          <p:spPr>
            <a:xfrm>
              <a:off x="1371600" y="4952880"/>
              <a:ext cx="1905120" cy="685800"/>
            </a:xfrm>
            <a:prstGeom prst="flowChartInputOutpu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11280" y="1370160"/>
            <a:ext cx="1901880" cy="529920"/>
          </a:xfrm>
          <a:prstGeom prst="flowChartInputOutpu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371600"/>
            <a:ext cx="1524240" cy="533520"/>
          </a:xfrm>
          <a:prstGeom prst="flowChartProcess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2438280"/>
            <a:ext cx="1143000" cy="457200"/>
          </a:xfrm>
          <a:prstGeom prst="flowChartInputOutpu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438280"/>
            <a:ext cx="1143000" cy="457200"/>
          </a:xfrm>
          <a:prstGeom prst="flowChartInputOutpu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2438280"/>
            <a:ext cx="1143000" cy="457200"/>
          </a:xfrm>
          <a:prstGeom prst="flowChartInputOutpu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1371600"/>
            <a:ext cx="1904760" cy="609480"/>
          </a:xfrm>
          <a:prstGeom prst="flowChartInputOutpu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1600200"/>
            <a:ext cx="83844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90920" y="1981080"/>
            <a:ext cx="91440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895480" y="1980720"/>
            <a:ext cx="83844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33560" y="1981080"/>
            <a:ext cx="15228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962520" y="1980720"/>
            <a:ext cx="15228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981080"/>
            <a:ext cx="30492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800240" y="1980720"/>
            <a:ext cx="30492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167652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4876920"/>
            <a:ext cx="1523880" cy="761760"/>
          </a:xfrm>
          <a:prstGeom prst="flowChartProcess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876920"/>
            <a:ext cx="1828800" cy="761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5105520"/>
            <a:ext cx="1904760" cy="685800"/>
          </a:xfrm>
          <a:prstGeom prst="flowChartInputOutpu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952880"/>
            <a:ext cx="1905120" cy="685800"/>
          </a:xfrm>
          <a:prstGeom prst="flowChartInputOutpu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257800"/>
            <a:ext cx="1905120" cy="685800"/>
          </a:xfrm>
          <a:prstGeom prst="flowChartInputOutpu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1981080"/>
            <a:ext cx="762120" cy="2743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943240" y="2057400"/>
            <a:ext cx="609480" cy="2743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57240" y="5334120"/>
            <a:ext cx="10666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05720" y="5257800"/>
            <a:ext cx="4572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1447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1447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4876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49528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er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5257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35268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3505320"/>
            <a:ext cx="4800600" cy="825480"/>
          </a:xfrm>
          <a:prstGeom prst="rect">
            <a:avLst/>
          </a:prstGeom>
          <a:solidFill>
            <a:srgbClr val="ffff00">
              <a:alpha val="87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passes through the data!  Theoretically, we need only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There's Another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achieve the same result with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asses through the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Hash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s a bonus, a DOW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OW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W Loop was discovered by and named after our section co-chair, Ian Whit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ands for DO loop of Whit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n't name it for himself.  As far as I can tell, it was named by Paul Dorfman, who has also promoted 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OW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faster than the standard one-iteration-per-observation method of processing BY-groups in a data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implifies code which is executed at the beginning and end of BY-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 understand it, it's also simpler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OW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ourier New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_null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* Code to run before BY-group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putlo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INFO: Starting BY-group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unti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last.stat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a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notsort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* Code to run for each observation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putlo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   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= c=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* Code to run after BY-group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putlo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INFO: Ending BY-group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=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tonal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ourier New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_null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a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notsort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* Code to run before BY-group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first.stat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putlo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INFO: Starting BY-group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* Code to run for each observation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putlo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   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= c=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* Code to run after BY-group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ast.stat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putlo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INFO: Ending BY-group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=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pic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ic today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multiple output data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ingle pass through an input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output data set names are based on values in the input data set and are not known in 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tages of New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lines of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tep iterated few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F statements that will usually be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read (after you understand it) because you don't have to think about when IFs are executed (code can be read sequenti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there are some really neat things you can do with double-DOW loops, but this is a 20 minute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ash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an Associative Array, because it's somewhat similar to associative arrays in other languages such as REX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an array, but with indexed keys instead of numbered subscri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saddled with a verbose syntax.  It's also an unfamiliar syntax, but you'll get ove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Dorfman is doing a paper on this in this room later this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a Hash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records back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Key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key differences between HOs and Arr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 Objects use keys, not ind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 Objects are implemented as object-oriented functions, not as base language synt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ash Object functions accept parameters for data set names and variable names rather than data sets an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omewhat Obscur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last point is somewhat obscure, I'll ad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ate it different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 Objects let you decide on data set names and variable names at run time rather than compil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's what makes this paper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276720"/>
            <a:ext cx="8839440" cy="1676160"/>
          </a:xfrm>
          <a:prstGeom prst="roundRect">
            <a:avLst>
              <a:gd name="adj" fmla="val 16667"/>
            </a:avLst>
          </a:prstGeom>
          <a:solidFill>
            <a:srgbClr val="ffff00">
              <a:alpha val="3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's Look at th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ourier New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_null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ash grou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oup = _new_ hash(ordered: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ascending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oup.definekey(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_unique_Key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oup.definedata(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State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b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c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oup.definedo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unti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last.stat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a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notsort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unique_key +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oup.ad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oup.output(dataset: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ex5_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|| stat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oup.dele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990720"/>
            <a:ext cx="2362320" cy="380880"/>
          </a:xfrm>
          <a:prstGeom prst="rect">
            <a:avLst/>
          </a:prstGeom>
          <a:solidFill>
            <a:srgbClr val="ccffff">
              <a:alpha val="2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9880" y="1370160"/>
            <a:ext cx="7542000" cy="1828800"/>
          </a:xfrm>
          <a:prstGeom prst="rect">
            <a:avLst/>
          </a:prstGeom>
          <a:solidFill>
            <a:srgbClr val="ffcc99">
              <a:alpha val="2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3200400"/>
            <a:ext cx="4114800" cy="2133720"/>
          </a:xfrm>
          <a:prstGeom prst="rect">
            <a:avLst/>
          </a:prstGeom>
          <a:solidFill>
            <a:srgbClr val="ccffff">
              <a:alpha val="2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5334120"/>
            <a:ext cx="7162920" cy="761760"/>
          </a:xfrm>
          <a:prstGeom prst="rect">
            <a:avLst/>
          </a:prstGeom>
          <a:solidFill>
            <a:srgbClr val="ffcc99">
              <a:alpha val="2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Restr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ust be in BY-group order in this example (but the groups themselves don't have to be in sort order)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code contains an example of using two Hash Objects to get around this requiremen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data for a group must fit into memory (old fashioned, maybe they'll fix it someda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Whitlock, for discovering this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Dorfman for publiciz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n Fehd for for further publiciz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Rhoads for setting a good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S-L for bringing up interes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In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excursive.com/sa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fh@alumni.stanford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d paper and code will be on web site in a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ould You Want To Do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're working strictly in SAS, you probably wouldn't need to – BY groups, CLASSes, and some reporting procedures can handle data in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you might have external requirements that you can't ch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files for extern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files for external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mity-haired b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Another Rea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opic gave me a handle to talk about two things I'm interested in:  DOW loops and Hash Objects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'm not making this up: I started looking at this after someone asked a question on SAS-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Sampl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ourier New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a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=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KY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CA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'MS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 =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 =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sto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f Th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267080" cy="414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880" y="2171880"/>
            <a:ext cx="4191120" cy="1714320"/>
          </a:xfrm>
          <a:prstGeom prst="borderCallout1">
            <a:avLst>
              <a:gd name="adj1" fmla="val 18750"/>
              <a:gd name="adj2" fmla="val -8333"/>
              <a:gd name="adj3" fmla="val 22777"/>
              <a:gd name="adj4" fmla="val 125226"/>
            </a:avLst>
          </a:prstGeom>
          <a:solidFill>
            <a:srgbClr val="bbe0e3">
              <a:alpha val="2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3886200"/>
            <a:ext cx="4186440" cy="1332000"/>
          </a:xfrm>
          <a:prstGeom prst="borderCallout1">
            <a:avLst>
              <a:gd name="adj1" fmla="val 18750"/>
              <a:gd name="adj2" fmla="val -8333"/>
              <a:gd name="adj3" fmla="val 25745"/>
              <a:gd name="adj4" fmla="val 125444"/>
            </a:avLst>
          </a:prstGeom>
          <a:solidFill>
            <a:srgbClr val="99cc00">
              <a:alpha val="2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2362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_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_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Way To Do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Courier New"/>
              </a:rPr>
              <a:t>dat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ex2_KY ex2_CA ex2_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h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(stat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3200" spc="-1" strike="noStrike">
                <a:solidFill>
                  <a:srgbClr val="800080"/>
                </a:solidFill>
                <a:latin typeface="Courier New"/>
              </a:rPr>
              <a:t>'KY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 output ex2_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3200" spc="-1" strike="noStrike">
                <a:solidFill>
                  <a:srgbClr val="800080"/>
                </a:solidFill>
                <a:latin typeface="Courier New"/>
              </a:rPr>
              <a:t>'CA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 output ex2_C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3200" spc="-1" strike="noStrike">
                <a:solidFill>
                  <a:srgbClr val="800080"/>
                </a:solidFill>
                <a:latin typeface="Courier New"/>
              </a:rPr>
              <a:t>'MS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 output ex2_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otherwis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error </a:t>
            </a:r>
            <a:r>
              <a:rPr b="1" lang="en-US" sz="3200" spc="-1" strike="noStrike">
                <a:solidFill>
                  <a:srgbClr val="800080"/>
                </a:solidFill>
                <a:latin typeface="Courier New"/>
              </a:rPr>
              <a:t>'Unknown State 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state=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Courier New"/>
              </a:rPr>
              <a:t>ru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is requires that we know the state codes in advance, and we've already stipulated that we do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e have to generate code dynam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Dynamic Code B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not an unmitigated evil, of course, and sometimes dynamic code generation is by far the best solution to a problem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8195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't see the code that's going to execute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, it requires an extra read (or more) through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'll show you how to do it anyw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21:10:11Z</dcterms:created>
  <dc:creator>c449630</dc:creator>
  <dc:description/>
  <dc:language>en-US</dc:language>
  <cp:lastModifiedBy>Jack Hamilton</cp:lastModifiedBy>
  <dcterms:modified xsi:type="dcterms:W3CDTF">2007-11-05T18:34:11Z</dcterms:modified>
  <cp:revision>30</cp:revision>
  <dc:subject/>
  <dc:title>Slide 1</dc:title>
</cp:coreProperties>
</file>